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8574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8574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0BEA-7D44-47DF-BC33-980505088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577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F558-9F76-402B-BACB-4BA4707EF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2430D-6BB8-4794-929B-61894973A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69A88-D7AC-4096-8A94-72A3A7237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514E4-0504-4925-9887-2DEC30735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427C9-66F2-4679-8715-2A03E86558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5291D-25C6-4CF2-8C4C-9B9F470BC2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A9970-79F3-47D5-88E8-37E9CC8850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B62E8-C7E8-4108-8D9B-66A62038C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A98B6-FE47-4879-8FD9-FA61B68622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0CBBE-F25C-479E-B645-E92C62D27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C13D7-98AC-4880-9995-2FB9E2567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CC4FA-4535-479D-8B4A-5BA25430E0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BED7E-DAE1-4063-B525-862AF92A8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ub11_0011ha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FAC5-4F15-4726-9FBB-F39B58762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4"/>
          <a:srcRect l="8747" t="28335" r="71254" b="45007"/>
          <a:stretch/>
        </p:blipFill>
        <p:spPr>
          <a:xfrm>
            <a:off x="533520" y="6248520"/>
            <a:ext cx="609480" cy="52200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1143000" y="6248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cc00"/>
                </a:solidFill>
                <a:latin typeface="Times New Roman"/>
                <a:ea typeface="標楷體"/>
              </a:rPr>
              <a:t>教育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380880" y="6172200"/>
            <a:ext cx="830592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投影片編號版面配置區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3688-E5B2-4CA4-B4CA-14741DA32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1800" y="150948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標楷體"/>
              </a:rPr>
              <a:t>100</a:t>
            </a:r>
            <a:r>
              <a:rPr b="1" lang="zh-TW" sz="4800" spc="-1" strike="noStrike">
                <a:solidFill>
                  <a:srgbClr val="cc3300"/>
                </a:solidFill>
                <a:latin typeface="標楷體"/>
              </a:rPr>
              <a:t>年度特教業務報告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2124000" y="4221000"/>
            <a:ext cx="5029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報告單位：教育處特教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日    期：</a:t>
            </a:r>
            <a:r>
              <a:rPr b="1" lang="en-US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100.02.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常見問題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有安置文號但無法申請獎勵補助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EP 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內容不足或格式不對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無檢附相關證明無法申請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有安置文號未即時提報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重複提報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轉銜相關事宜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每年轉銜事宜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非只階段轉銜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幼小轉銜須評估個案情況並在大班時重新評估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聯合評估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請家長填寫轉銜意願表以及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0-6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歲評估表紀錄以及轉銜清冊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本府彙整轉銜清冊並函知欲就讀學校掌握學生未來就學動態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轉銜前的準備工作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轉銜資料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轉銜服務資料包括學生基本資料、目前能力分析、學生學習紀錄摘要、評量資料、學生與家庭輔導紀錄、專業服務紀錄、福利服務紀錄及未來進路所需協助與輔導建議等項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常見問題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415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未落實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EP</a:t>
            </a: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以及轉銜會議召開。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未告知已異動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請依電話訪問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未實際轉知需參加幼小轉銜說明會，未轉知適合就讀學校以及班級類型。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未告知已轉校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請用電話紀錄以及請接收園所召開轉銜會議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檢具相關結果提報鑑輔會。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無法異動未確實作存檔動作或未填轉銜表。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未追蹤個案轉銜後安置情形。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除名以及緩讀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除名時請檢具相關醫療證明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改善程度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以及校內評估紀錄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由教師、巡迴輔導教師以及相關專業人員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，提報鑑輔會審查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緩讀須符合相關規定並提報鑑輔會審查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00</a:t>
            </a: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年度重要活動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含研習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學年度幼小轉銜說明博覽會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嘉義市以及嘉義縣各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場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年慢飛天使聯誼會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預計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月份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年暑期親子水中活動營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朴子國小、水上國小、大林國小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年親子適應體育活動營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年特專業知能工作坊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學年度入學適應班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預計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班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常見問題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參加特教研習時數是否可列入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8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小時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參加研習無上網報名無法核發時數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研習後無上網查詢是否有審核通過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托兒所特教業務宣導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特教通報網業務操作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學前特教巡迴輔導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特教專業團隊服務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獎勵招收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-6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歲身心障礙幼兒以及補助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-5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歲幼兒經費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轉銜相關事宜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年度重要活動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含研習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特教通報網業務操作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疑似生提報安置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依時程提報鑑定安置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提報巡迴輔導以及專業團隊服務申請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固定填報或檢視事項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辦理校內研習會議登錄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含召開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EP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會議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常見問題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只提報疑似生、不懂提報鑑定安置功能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接收問題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相關證明效用期間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手冊、醫療診斷書、 聯合評估中心報告書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需不需要出席鑑輔會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異動以及接收個案事宜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教師研習課程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學前特教巡迴輔導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請檢視有無提報鑑輔會取得安置文號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早療和特教銜接配合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先以紙本提出申請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務必提報鑑輔會以及網路申請巡迴輔導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依區域以及人力服務或委請其他機構協助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常見問題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無提報鑑輔會、無安置文號申請巡迴輔導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有請早療中心介入但提報特教通報網無安置文號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團體輔導或個別輔導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特教專業團隊服務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特教專業團隊之組成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須經每年特教專業團隊巡迴診視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約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月份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或區域醫院診斷證明書敘明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於寒暑假提報以及學期中服務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服務方式以諮詢、間接服務為主，以團隊服務為主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常見問題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特教專業團隊和巡迴輔導不同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特教專業團隊和醫療復健不同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無經巡迴診視確認服務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3300"/>
                </a:solidFill>
                <a:latin typeface="Times New Roman"/>
              </a:rPr>
              <a:t>獎勵招收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3-6</a:t>
            </a:r>
            <a:r>
              <a:rPr b="1" lang="zh-TW" sz="4000" spc="-1" strike="noStrike">
                <a:solidFill>
                  <a:srgbClr val="ff3300"/>
                </a:solidFill>
                <a:latin typeface="Times New Roman"/>
              </a:rPr>
              <a:t>歲身心障礙幼兒以及補助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3-5</a:t>
            </a:r>
            <a:r>
              <a:rPr b="1" lang="zh-TW" sz="4000" spc="-1" strike="noStrike">
                <a:solidFill>
                  <a:srgbClr val="ff3300"/>
                </a:solidFill>
                <a:latin typeface="Times New Roman"/>
              </a:rPr>
              <a:t>歲幼兒經費。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6560" y="1989000"/>
            <a:ext cx="813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檢附申請文件以及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EP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計畫送鑑輔會審查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依鑑輔會結果提報並列印核章送府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待教育部核定後檢送印領清冊以及收據送府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待教育部撥款後另案撥付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09:46:51Z</dcterms:created>
  <dc:creator>冠延</dc:creator>
  <dc:description/>
  <dc:language>en-US</dc:language>
  <cp:lastModifiedBy>p121519810_曾榮毅</cp:lastModifiedBy>
  <dcterms:modified xsi:type="dcterms:W3CDTF">2011-02-09T07:00:26Z</dcterms:modified>
  <cp:revision>22</cp:revision>
  <dc:subject/>
  <dc:title>公私立幼稚園輔導計畫</dc:title>
</cp:coreProperties>
</file>