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574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574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40B7-49F7-464C-8869-BC8ABAD4A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08DC-6A7B-42D9-AC84-DB5665589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F77D-E7D9-473D-9EB0-78F1C44FD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8FBC-634E-4848-83D1-2B80198A2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99E0-B025-4027-AAE8-073B52A08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B4A1A-41FF-43BA-9D21-6FE1BD319D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DD17-C35A-4010-9277-7A0BCB16E9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7AC6-2FB6-4A29-9286-063C4510B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08ED-E6D0-4435-AA2C-FE432F0F1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D943-B69E-47A3-B4F2-C6C98CA43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B72E-C4BB-4046-8522-021B2F17A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D7D4-2B39-4F45-AC38-3A646BB9F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B05D-C3B1-4384-98BD-B2AB3F70B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79DC-0DD5-416D-AFA6-7A2E512A3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ub11_0011ha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7DCD-39CC-4FBD-B122-A222FF71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4"/>
          <a:srcRect l="8747" t="28335" r="71254" b="45007"/>
          <a:stretch/>
        </p:blipFill>
        <p:spPr>
          <a:xfrm>
            <a:off x="533520" y="6248520"/>
            <a:ext cx="609480" cy="522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1143000" y="6248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cc00"/>
                </a:solidFill>
                <a:latin typeface="Times New Roman"/>
                <a:ea typeface="標楷體"/>
              </a:rPr>
              <a:t>教育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投影片編號版面配置區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0427-24AC-4473-BE58-610E67BF1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1800" y="150948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標楷體"/>
              </a:rPr>
              <a:t>100</a:t>
            </a:r>
            <a:r>
              <a:rPr b="1" lang="zh-TW" sz="4800" spc="-1" strike="noStrike">
                <a:solidFill>
                  <a:srgbClr val="cc3300"/>
                </a:solidFill>
                <a:latin typeface="標楷體"/>
              </a:rPr>
              <a:t>年度特教業務報告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124000" y="4221000"/>
            <a:ext cx="502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報告單位：教育處特教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日    期：</a:t>
            </a:r>
            <a:r>
              <a:rPr b="1" lang="en-US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100.02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有安置文號但無法申請獎勵補助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EP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內容不足或格式不對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無檢附相關證明無法申請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有安置文號未即時提報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重複提報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轉銜相關事宜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每年轉銜事宜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非只階段轉銜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幼小轉銜須評估個案情況並在大班時重新評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聯合評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請家長填寫轉銜意願表以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-6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歲評估表紀錄以及轉銜清冊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本府彙整轉銜清冊並函知欲就讀學校掌握學生未來就學動態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轉銜前的準備工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轉銜資料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轉銜服務資料包括學生基本資料、目前能力分析、學生學習紀錄摘要、評量資料、學生與家庭輔導紀錄、專業服務紀錄、福利服務紀錄及未來進路所需協助與輔導建議等項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415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未落實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EP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以及轉銜會議召開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未告知已異動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請依電話訪問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未實際轉知需參加幼小轉銜說明會，未轉知適合就讀學校以及班級類型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未告知已轉校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請用電話紀錄以及請接收園所召開轉銜會議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檢具相關結果提報鑑輔會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無法異動未確實作存檔動作或未填轉銜表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imes New Roman"/>
              </a:rPr>
              <a:t>未追蹤個案轉銜後安置情形。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除名以及緩讀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除名時請檢具相關醫療證明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改善程度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以及校內評估紀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由教師、巡迴輔導教師以及相關專業人員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，提報鑑輔會審查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緩讀須符合相關規定並提報鑑輔會審查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年度重要活動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含研習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學年度幼小轉銜說明博覽會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嘉義市以及嘉義縣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場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年慢飛天使聯誼會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預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月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年暑期親子水中活動營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朴子國小、水上國小、大林國小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年親子適應體育活動營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年特專業知能工作坊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學年度入學適應班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預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班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參加特教研習時數是否可列入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8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小時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參加研習無上網報名無法核發時數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研習後無上網查詢是否有審核通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托兒所特教業務宣導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特教通報網業務操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學前特教巡迴輔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特教專業團隊服務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獎勵招收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-6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歲身心障礙幼兒以及補助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-5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歲幼兒經費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轉銜相關事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年度重要活動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含研習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特教通報網業務操作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疑似生提報安置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依時程提報鑑定安置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提報巡迴輔導以及專業團隊服務申請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固定填報或檢視事項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辦理校內研習會議登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含召開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EP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會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只提報疑似生、不懂提報鑑定安置功能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接收問題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相關證明效用期間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手冊、醫療診斷書、 聯合評估中心報告書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需不需要出席鑑輔會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異動以及接收個案事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教師研習課程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學前特教巡迴輔導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請檢視有無提報鑑輔會取得安置文號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早療和特教銜接配合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先以紙本提出申請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務必提報鑑輔會以及網路申請巡迴輔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依區域以及人力服務或委請其他機構協助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無提報鑑輔會、無安置文號申請巡迴輔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有請早療中心介入但提報特教通報網無安置文號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團體輔導或個別輔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特教專業團隊服務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特教專業團隊之組成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須經每年特教專業團隊巡迴診視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月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或區域醫院診斷證明書敘明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於寒暑假提報以及學期中服務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服務方式以諮詢、間接服務為主，以團隊服務為主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00"/>
                </a:solidFill>
                <a:latin typeface="Times New Roman"/>
              </a:rPr>
              <a:t>常見問題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特教專業團隊和巡迴輔導不同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特教專業團隊和醫療復健不同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無經巡迴診視確認服務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Times New Roman"/>
              </a:rPr>
              <a:t>獎勵招收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-6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</a:rPr>
              <a:t>歲身心障礙幼兒以及補助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-5</a:t>
            </a:r>
            <a:r>
              <a:rPr b="1" lang="zh-TW" sz="4000" spc="-1" strike="noStrike">
                <a:solidFill>
                  <a:srgbClr val="ff3300"/>
                </a:solidFill>
                <a:latin typeface="Times New Roman"/>
              </a:rPr>
              <a:t>歲幼兒經費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13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檢附申請文件以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EP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計畫送鑑輔會審查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依鑑輔會結果提報並列印核章送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待教育部核定後檢送印領清冊以及收據送府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待教育部撥款後另案撥付。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9:46:51Z</dcterms:created>
  <dc:creator>冠延</dc:creator>
  <dc:description/>
  <dc:language>en-US</dc:language>
  <cp:lastModifiedBy>p121519810_曾榮毅</cp:lastModifiedBy>
  <dcterms:modified xsi:type="dcterms:W3CDTF">2011-02-09T07:00:26Z</dcterms:modified>
  <cp:revision>22</cp:revision>
  <dc:subject/>
  <dc:title>公私立幼稚園輔導計畫</dc:title>
</cp:coreProperties>
</file>